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6D6-FD73-4157-9A6F-059C44AB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11D-E6D0-4265-957E-BD41FD46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6A11-FB4E-4828-83D1-1BA7C905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055-5B2F-4694-9EA4-8283812E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5E5-C970-48CA-AB84-745564C0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DC2-D18A-4BCE-A6A6-DBDFB8DB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855-7A68-4F89-87BD-CFBD8A0F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D35-B2E2-4691-8F37-CF3DAEAE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038-B40C-4CDB-BA7C-26482B09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FE6-0999-432A-B9B7-6E0DE04A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F23-BB33-4DD8-B75C-3AE94131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5F1-9BB9-4465-A20D-04745CBD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9572-099A-4626-A5A8-021DE8A8F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a compression LZ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ompression LZSS se fait de la même manière que LZ77 excepté le fait qu’on puisse tomber face à deux cas de figure pour le mot codé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un triplet (marqueur, position, longueur) quand on compresse la donné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juste un couple (marqueur, caractère non compressé) quand on ne compresse p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marqueur est à 1 lorsque la donnée qui suit est la paire (position, longueur), et 0 si on a simplement le caractère non compressé à la su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nons l’exemple précé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676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3429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724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1,3,5)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5:30:46Z</dcterms:created>
  <dc:creator>Monchamps</dc:creator>
  <dc:description/>
  <dc:language>en-US</dc:language>
  <cp:lastModifiedBy>Monchamps</cp:lastModifiedBy>
  <dcterms:modified xsi:type="dcterms:W3CDTF">2004-05-16T15:40:52Z</dcterms:modified>
  <cp:revision>7</cp:revision>
  <dc:subject/>
  <dc:title>La compression LZSS</dc:title>
</cp:coreProperties>
</file>