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99FD-A618-4DF0-9AD5-8595FACF2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0ECD-E943-4D61-8808-E47AAF776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759-BF8F-4223-A4F4-D3DFD5608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8857-963F-421E-AA8B-F78FBE33A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00E0-12A0-4EDB-A0D2-FAC5692C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25A4-486A-43E5-A034-B89FC776A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6F8B-D65E-460B-93F8-C9C19C79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BF06-F242-4750-9465-824D93CB2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0332-BD3A-4852-B7EE-6746BD096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B1BB-4A28-41E1-946C-B0873556D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E485-EB74-4171-808F-83CEFB4B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46FF-00F0-4D99-8B7F-AD14A037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29F6E-F89D-4255-9C5F-E968080203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apport de compre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aison des différentes méthodes de compression sur plusieurs fichi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0" y="60948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0948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819520" y="1676520"/>
          <a:ext cx="2514600" cy="558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1676520"/>
                    <a:ext cx="25146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5257800" y="167652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0" y="685800"/>
          <a:ext cx="9144000" cy="5524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0" y="501480"/>
          <a:ext cx="9144000" cy="5855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01480"/>
                    <a:ext cx="9144000" cy="585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749520" y="6172200"/>
            <a:ext cx="51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eu : taille initiale. Rouge : taille fin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666880" y="16002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3 760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09480" y="103320"/>
          <a:ext cx="8077320" cy="6754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03320"/>
                    <a:ext cx="807732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4419720" y="13716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89 878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46880" y="5985000"/>
            <a:ext cx="65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eurs 24 bits 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762120"/>
          <a:ext cx="9144000" cy="522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62120"/>
                    <a:ext cx="9144000" cy="522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380880" y="0"/>
          <a:ext cx="815364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0"/>
                    <a:ext cx="815364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987120" y="6248520"/>
            <a:ext cx="60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6 couleurs, 512*384 pixels , résolution 96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76720" y="19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7 686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62120" y="0"/>
          <a:ext cx="7772400" cy="687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772400" cy="68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3520" y="0"/>
          <a:ext cx="8153280" cy="681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0"/>
                    <a:ext cx="8153280" cy="681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733920" y="182880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64 454 oct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3040" y="6172200"/>
            <a:ext cx="314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2kbps, 16bits, 22KH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762120" y="0"/>
          <a:ext cx="7696080" cy="6810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0"/>
                    <a:ext cx="7696080" cy="681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6T16:17:19Z</dcterms:created>
  <dc:creator>Monchamps</dc:creator>
  <dc:description/>
  <dc:language>en-US</dc:language>
  <cp:lastModifiedBy>Monchamps</cp:lastModifiedBy>
  <dcterms:modified xsi:type="dcterms:W3CDTF">2004-05-16T20:01:31Z</dcterms:modified>
  <cp:revision>21</cp:revision>
  <dc:subject/>
  <dc:title>Rapport de compression</dc:title>
</cp:coreProperties>
</file>