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F967-E6DB-4946-BDB0-F3EA75EF5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6152-14F9-4D6F-A4F6-777433189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48019-C378-4081-ACF5-7031E57F8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933D-963F-40F7-BC98-2C7864C22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E4EA-FEC5-4180-9D39-3F52E20AE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CB15-1820-4B44-A7D3-C62CA019F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7156-4F70-4710-B925-9D421AAFC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D599-8D9D-4E91-9F34-EAF23AA99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720F-8C9C-423B-B2C4-7198F5474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0FDF-D4F6-4228-8B30-AD1613172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39F2-5C14-4473-9CC5-F22AB9B63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78E6-7D51-4F2F-8DA3-1482AAD8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93256-2B28-4782-9E4E-91E06DD7F8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ression LZ77 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e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ompression LZ77 : exem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Nous allons maintenant étudier la compression LZ77 au travers d’un exemple en compressant la phrase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how-much-wood-would-a-wookchu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On parcourt le fichier tout en le compressa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685800"/>
          </a:xfrm>
          <a:prstGeom prst="rect">
            <a:avLst/>
          </a:prstGeom>
          <a:solidFill>
            <a:srgbClr val="66ff33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cc00"/>
                </a:solidFill>
                <a:latin typeface="Times New Roman"/>
              </a:rPr>
              <a:t>how-much-wood-w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48320" y="1981080"/>
            <a:ext cx="1143000" cy="581400"/>
          </a:xfrm>
          <a:prstGeom prst="rect">
            <a:avLst/>
          </a:prstGeom>
          <a:solidFill>
            <a:srgbClr val="ff3300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uld-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3640" y="2895480"/>
            <a:ext cx="303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enêtre (dictionnai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95680" y="2895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3809880"/>
            <a:ext cx="3809880" cy="581400"/>
          </a:xfrm>
          <a:prstGeom prst="rect">
            <a:avLst/>
          </a:prstGeom>
          <a:solidFill>
            <a:srgbClr val="66ff33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cc00"/>
                </a:solidFill>
                <a:latin typeface="Times New Roman"/>
              </a:rPr>
              <a:t>ow-much-wood-w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648320" y="3809880"/>
            <a:ext cx="1143000" cy="520560"/>
          </a:xfrm>
          <a:prstGeom prst="rect">
            <a:avLst/>
          </a:prstGeom>
          <a:solidFill>
            <a:srgbClr val="ff3300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3300"/>
                </a:solidFill>
                <a:latin typeface="Times New Roman"/>
              </a:rPr>
              <a:t>ld-a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419720" y="5029200"/>
            <a:ext cx="1371600" cy="581400"/>
          </a:xfrm>
          <a:prstGeom prst="rect">
            <a:avLst/>
          </a:prstGeom>
          <a:solidFill>
            <a:srgbClr val="ff3300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-w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5029200"/>
            <a:ext cx="3581280" cy="581400"/>
          </a:xfrm>
          <a:prstGeom prst="rect">
            <a:avLst/>
          </a:prstGeom>
          <a:solidFill>
            <a:srgbClr val="66ff33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cc00"/>
                </a:solidFill>
                <a:latin typeface="Times New Roman"/>
              </a:rPr>
              <a:t>uch-wood-would-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14479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038480" y="17524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685800" y="175248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5880" y="1905120"/>
            <a:ext cx="2590920" cy="13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rnier caractère codé : u=0,0,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triple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172200" y="36576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rnier caractère codé : l=0,0,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362320" y="44197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38280" y="4495680"/>
            <a:ext cx="134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5 éta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71600" y="5029200"/>
            <a:ext cx="1066680" cy="685800"/>
          </a:xfrm>
          <a:prstGeom prst="rect">
            <a:avLst/>
          </a:prstGeom>
          <a:solidFill>
            <a:srgbClr val="00cc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5029200"/>
            <a:ext cx="1143000" cy="685800"/>
          </a:xfrm>
          <a:prstGeom prst="rect">
            <a:avLst/>
          </a:prstGeom>
          <a:solidFill>
            <a:srgbClr val="ff505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5715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029200" y="5715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05120" y="609588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72200" y="51055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</a:rPr>
              <a:t>-wood=12,5,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3505320"/>
            <a:ext cx="8686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2280" y="472428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9880" y="4724280"/>
            <a:ext cx="5029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1600200"/>
            <a:ext cx="0" cy="4724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Compressi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omment le programme compresse-t-il le fichier 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Quand le programme parcourt le fichier, compare les occurrences du buffer avec celles du dictionnaire. Si il trouve des occurrences semblables de plus de 3 caractères, le  dictionnaire est avancé du nombre de caractères à compresser +1 et l ’occurrence est codée sous la forme d ’un triplet (pos,size,caractère non codé suiva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imes New Roman"/>
              </a:rPr>
              <a:t>Et voici la dernière étape : la boucle est bouclée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480024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rnier caractère codé : h=0,0,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2286000"/>
            <a:ext cx="4191120" cy="685800"/>
          </a:xfrm>
          <a:prstGeom prst="rect">
            <a:avLst/>
          </a:prstGeom>
          <a:solidFill>
            <a:srgbClr val="66ff33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cc00"/>
                </a:solidFill>
                <a:latin typeface="Times New Roman"/>
              </a:rPr>
              <a:t>od-would-a-woodchu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05520" y="2286000"/>
            <a:ext cx="1523880" cy="581400"/>
          </a:xfrm>
          <a:prstGeom prst="rect">
            <a:avLst/>
          </a:prstGeom>
          <a:solidFill>
            <a:srgbClr val="ff3300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Times New Roman"/>
              </a:rPr>
              <a:t>huck 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5320" y="3124080"/>
            <a:ext cx="7783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Ø correspond à un vide : en effet il n ’y a plu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que 4 caractères dans la phrase et le buffer 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ompte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9T09:01:59Z</dcterms:created>
  <dc:creator>eleve</dc:creator>
  <dc:description/>
  <dc:language>en-US</dc:language>
  <cp:lastModifiedBy>eleve</cp:lastModifiedBy>
  <dcterms:modified xsi:type="dcterms:W3CDTF">2004-05-13T20:02:10Z</dcterms:modified>
  <cp:revision>31</cp:revision>
  <dc:subject/>
  <dc:title>Compression LZH :</dc:title>
</cp:coreProperties>
</file>