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DF28-89B2-4871-98D3-9BF962C6A1DA}" type="slidenum">
              <a:rPr b="0" lang="fr-FR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lusion avant arb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69A5-0436-4F73-922C-FA2BA04D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B564-4EE6-42C1-80AB-1CD9C0B09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8FD5-B98F-41AD-B039-CA37B275F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7A9-245E-4EA1-A5E5-C329B46E1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E4926-8E0C-417F-B639-02F343755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0642-57E1-4584-B8CB-E5B7C147A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E174E-5A81-48BA-BF0C-089728EFE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99DFC-2A45-4A51-9F29-F99D45DD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45C91-BF80-4A4A-AFEB-56B733E2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BFC8-4D66-4C9B-B45C-096778CE1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ADADA-2B55-45FB-A5C1-065F56E9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048D-F294-41C4-B936-CBBB0CA8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01245-7A89-48C0-BA31-E6871289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0CDE5-D048-424F-8D52-64B9AE1D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499B-70B8-4908-BA81-29C7DEEE8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289D-4D57-4D86-B254-3433D36E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38AA7-364A-478C-8295-BED4AEC3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9DFD-1EB2-4EBD-9CC4-61B50C58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BDBF-7E21-470C-AAD8-C8E3352BC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9874-694F-4E31-B12E-078CDF43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560F-AE46-4792-9399-07CF0C7E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3B6D-0F44-4AC0-812C-7D28D4FF3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66AB-181B-454B-A206-D5F66D61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1B9D-160D-4956-BA3F-283DC736D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7C324-C4A6-43BE-BB9B-5C1430AB234C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FE0E-5AC1-489D-8867-039EF14E75C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Arbre de Huffma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676520" y="37339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à quoi sert-il ,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76520" y="190512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Nous allons maintenant expliquer 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28195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qu’est-ce qu’un arbre de huffman 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76520" y="457200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d189"/>
                </a:solidFill>
                <a:latin typeface="Times New Roman"/>
              </a:rPr>
              <a:t>comment le créé-t-on 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447920" y="289548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our simplifier les choses nous n’utiliserons pas les accents , les majuscules et les points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3886200"/>
            <a:ext cx="76201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Dans un premier temps , nous trouverons la fréquence d’apparition de chaque lettre dans la phrase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uis nous créerons l’arbre de huffman étape par étape en détaillant celles-ci ,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enfin , nous calculerons la taille du fichier compressé en la détaillant : tant d’octets pour la table , tant pour l’arbre , et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Nous allons créer un arbre du huffman spécifique à la phrase suivante :</a:t>
            </a:r>
            <a:br>
              <a:rPr sz="2800"/>
            </a:br>
            <a:r>
              <a:rPr b="0" lang="fr-FR" sz="2800" spc="-1" strike="noStrike">
                <a:solidFill>
                  <a:srgbClr val="ebd189"/>
                </a:solidFill>
                <a:latin typeface="Arial Narrow"/>
              </a:rPr>
              <a:t> «  le president est entre dans la salle  »</a:t>
            </a:r>
            <a:br>
              <a:rPr sz="2800"/>
            </a:br>
            <a:endParaRPr b="0" lang="en-US" sz="28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66680" y="15228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769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95280" y="54100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295280" y="2895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12193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7692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7692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876920" y="4572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129528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95280" y="1219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219320" y="19810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76920" y="1143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76920" y="2057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76920" y="2895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7692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5410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4572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733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2971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1371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7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22096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6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057400" y="29718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05740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4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4648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574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38680" y="12193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3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38680" y="21337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30481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2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638680" y="38862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638680" y="472428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Apparaît 1 foi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7391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On peut déjà déterminer le nombre de fois où chaque lettre apparaît dans la phrase :</a:t>
            </a:r>
            <a:br>
              <a:rPr sz="2400"/>
            </a:br>
            <a:r>
              <a:rPr b="0" lang="fr-FR" sz="2400" spc="-1" strike="noStrike">
                <a:solidFill>
                  <a:srgbClr val="ebd189"/>
                </a:solidFill>
                <a:latin typeface="Arial Narrow"/>
              </a:rPr>
              <a:t>le president est entre dans la salle</a:t>
            </a:r>
            <a:br>
              <a:rPr sz="2400"/>
            </a:br>
            <a:endParaRPr b="0" lang="en-US" sz="2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143000" y="2286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connaît maintenant la fréquence d’apparition de chacune des lettres de cette phrase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1219320"/>
            <a:ext cx="716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On sait également que le nombre total de caractères de cette phrase est de 36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447920" y="24382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’arbre que nous allons maintenant réaliser est un arbre binaire, c’est à dire que les lettres vont avoir un nombre binaire qui leur correspondra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42670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ar convention , lors d’une ramification de l’arbre , là où il se sépare en deux , le chemin de gauche est noté avec un 0 et celui de droite avec un 1 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680" y="56386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bd189"/>
                </a:solidFill>
                <a:latin typeface="Arial"/>
              </a:rPr>
              <a:t>Nous allons maintenant créer l’arbre</a:t>
            </a:r>
            <a:endParaRPr b="0" lang="en-US" sz="32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Voici l’arbre cré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848720" y="3276720"/>
            <a:ext cx="761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2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483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3200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403848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0512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153280" y="3276720"/>
            <a:ext cx="76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3200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0292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_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40384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648320" y="4114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4582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352680" y="5105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324480" y="5029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61722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5029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52680" y="51055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45820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p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238880" y="6172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137160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09480" y="45720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7620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85800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819520" y="4495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6095880" y="350532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56386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19720" y="3581280"/>
            <a:ext cx="30456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274320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381880" y="5638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352680" y="4495680"/>
            <a:ext cx="304920" cy="4572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37160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380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66880" y="21337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343400" y="11430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315200" y="205740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93432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848720" y="4876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95480" y="37339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24480" y="2819520"/>
            <a:ext cx="685800" cy="6858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447920" y="2743200"/>
            <a:ext cx="1218960" cy="9907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3352680" y="1676160"/>
            <a:ext cx="914400" cy="53316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05520" y="1523880"/>
            <a:ext cx="2209680" cy="6098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71600" y="4419720"/>
            <a:ext cx="22860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505320" y="3429000"/>
            <a:ext cx="380880" cy="38088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352680" y="2666880"/>
            <a:ext cx="45720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7010280" y="2666880"/>
            <a:ext cx="228600" cy="15264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0" y="3505320"/>
            <a:ext cx="152280" cy="22860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43800" y="4343400"/>
            <a:ext cx="380880" cy="533520"/>
          </a:xfrm>
          <a:prstGeom prst="line">
            <a:avLst/>
          </a:prstGeom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352680" y="1523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3429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352680" y="3276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56386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2666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58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91520" y="5562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7280" y="13716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4419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9810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716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495680" y="3505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29000" y="23623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1880" y="5562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0120" y="43434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81680" y="32767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924680" y="266688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267080" y="1219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3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621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2209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9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7724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248520" y="2895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8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8880" y="21337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1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295280" y="4952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6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819520" y="3809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a"/>
                </a:solidFill>
                <a:latin typeface="Arial Narrow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0880" y="6858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609480"/>
            <a:ext cx="1905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Les lettres ont chacune un nombre binaire qui leur correspond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124080" y="5670720"/>
            <a:ext cx="383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 Narrow"/>
              </a:rPr>
              <a:t>Plus la fréquence d’apparition d’une lettre est élevée, plus son nombre binaire sera petit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b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a phrase est maintenant compressé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Voici la table binaire 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e: 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a : 0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- : 0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r  : 10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l : 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d : 010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s: 100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p : 1011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n: 0011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i  : 1011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t : 0100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3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</a:rPr>
              <a:t>Mais qu’en est-il de la taille du fichier 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Taille du fichier compres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La phrase compressée occupe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(7*2 + 6*3 + 4*3 + 4*3 + 3*4 + 3*4 + 3*4 + 2*4 + 2*4 + 1*5 + 1*5) = 11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au lieu de (36 * 8) = 288 bits,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pour un gain de compression de ((288 – 118) / 288) = 59%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eaeaea"/>
                </a:solidFill>
                <a:uFillTx/>
                <a:latin typeface="Arial"/>
                <a:ea typeface="Times New Roman"/>
              </a:rPr>
              <a:t>NB</a:t>
            </a:r>
            <a:r>
              <a:rPr b="0" lang="fr-FR" sz="3200" spc="-1" strike="noStrike">
                <a:solidFill>
                  <a:srgbClr val="eaeaea"/>
                </a:solidFill>
                <a:latin typeface="Arial"/>
                <a:ea typeface="Times New Roman"/>
              </a:rPr>
              <a:t> :Ce taux de compression diminue faiblement à cause de la table des codes de Huffman, indispensable pour la décompressio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7:39:57Z</dcterms:created>
  <dc:creator>Monchamps</dc:creator>
  <dc:description/>
  <dc:language>en-US</dc:language>
  <cp:lastModifiedBy>Monchamps</cp:lastModifiedBy>
  <dcterms:modified xsi:type="dcterms:W3CDTF">2004-05-13T17:38:04Z</dcterms:modified>
  <cp:revision>71</cp:revision>
  <dc:subject/>
  <dc:title>Arbre de Huffman</dc:title>
</cp:coreProperties>
</file>