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A410-5418-4FEF-9D1B-41ABCA317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DDDA-09B2-443D-867E-4F7F902A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9F01-2EE7-4240-9331-C72373D2D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299-96D6-4982-B641-DA8EC155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3FFD9-D254-42E5-B457-A3967179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C93A-C491-45BD-B4A6-03C34ACB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E22-608F-496D-BE6F-497AE5370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84AE-BCE4-4292-9E5D-F5EF4C97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B72-F0CC-432E-A7CE-6136A495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A906-D2CD-4569-B004-865CCBE8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9F9C-CDE1-472D-A7D0-F2AB1102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5266-B90C-4F3D-BA37-A127E266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CAF4-5CAB-48B0-B2EE-AEB6044BEB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La compression LZ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480" y="228600"/>
            <a:ext cx="777240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a compression LZSS se fait de la même manière que LZ77 excepté le fait qu’on puisse tomber face à deux cas de figure pour le mot codé 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un triplet (marqueur, position, longueur) quand on compresse la donné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 a juste un couple (marqueur, caractère non compressé) quand on ne compresse p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e marqueur est à 1 lorsque la donnée qui suit est la paire (position, longueur), et 0 si on a simplement le caractère non compressé à la sui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nons l’exemple précéd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943600" y="167652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19920" y="34290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0,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943600" y="47242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(1,3,5) 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5:30:46Z</dcterms:created>
  <dc:creator>Monchamps</dc:creator>
  <dc:description/>
  <dc:language>en-US</dc:language>
  <cp:lastModifiedBy>Monchamps</cp:lastModifiedBy>
  <dcterms:modified xsi:type="dcterms:W3CDTF">2004-05-16T15:40:52Z</dcterms:modified>
  <cp:revision>7</cp:revision>
  <dc:subject/>
  <dc:title>La compression LZSS</dc:title>
</cp:coreProperties>
</file>