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B3F9-016C-4994-A663-768C46E09470}" type="slidenum"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 avant ar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61C7-A316-41F2-940D-E1776528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07A4-E73F-4A83-A509-88B719C4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9874-D96E-4FC0-BB45-5EF22417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40C-DE47-4108-97FB-D038081B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B160-5B59-4B3C-AD86-2A71D714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6DE2-1266-4965-BBE9-EF4F2218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DB81-CAA0-4D9C-A7A3-FD08F211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5AEF-CABA-4E9D-B9FF-9255A4DC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83E0-AB2D-4ADD-B402-98E81B20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5770-C4E6-4B7E-9E22-00E68DD3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D572-2CA8-41A4-9884-B37F1835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84E1-B365-4EDC-AA6D-9B6BB976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5F66-83D3-400B-91CB-44C33633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59A5-24FA-41F1-BD92-E67D4A86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91E6-F569-4D3D-8698-A419D16A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587C-8418-474A-9F55-943A20FD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8487-33A4-4ACA-8367-FC88B416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7CAD-FA9F-462D-9BA3-93D175D4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9A3D-8398-47B5-A733-005D54CA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4D68-5C8F-4086-9FE1-F8BFD630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F49F-5294-4045-A6BE-AA7AE5E9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667A-D284-496A-8387-462E7B03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81DB-DAC6-4DF5-BA5B-9EC77D10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8EE7-85D3-4DEF-82E7-243CEAC6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F7BF-293E-4DA1-B719-CE975281A4B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3F72-F795-4641-B90D-17E7425D92B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rbre de Huffm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76520" y="37339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à quoi sert-il 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1905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Nous allons maintenant expliquer 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28195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qu’est-ce qu’un arbre de huffman 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4572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comment le créé-t-on 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28954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our simplifier les choses nous n’utiliserons pas les accents , les majuscules et les points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886200"/>
            <a:ext cx="7620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ans un premier temps , nous trouverons la fréquence d’apparition de chaque lettre dans la phrase 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uis nous créerons l’arbre de huffman étape par étape en détaillant celles-ci 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enfin , nous calculerons la taille du fichier compressé en la détaillant : tant d’octets pour la table , tant pour l’arbre 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bd189"/>
                </a:solidFill>
                <a:latin typeface="Arial Narrow"/>
              </a:rPr>
              <a:t>Nous allons créer un arbre du huffman spécifique à la phrase suivante :</a:t>
            </a:r>
            <a:br>
              <a:rPr sz="2800"/>
            </a:br>
            <a:r>
              <a:rPr b="0" lang="fr-FR" sz="2800" spc="-1" strike="noStrike">
                <a:solidFill>
                  <a:srgbClr val="ebd189"/>
                </a:solidFill>
                <a:latin typeface="Arial Narrow"/>
              </a:rPr>
              <a:t> «  le president est entre dans la salle  »</a:t>
            </a:r>
            <a:br>
              <a:rPr sz="2800"/>
            </a:b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66680" y="1522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54100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2895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2895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12193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1143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572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4572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12952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1219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1981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2895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3733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572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5410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572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3733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2971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1371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7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2209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6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4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4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4648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12193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21337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2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3048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2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3886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1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4724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1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bd189"/>
                </a:solidFill>
                <a:latin typeface="Arial Narrow"/>
              </a:rPr>
              <a:t>On peut déjà déterminer le nombre de fois où chaque lettre apparaît dans la phrase :</a:t>
            </a:r>
            <a:br>
              <a:rPr sz="2400"/>
            </a:br>
            <a:r>
              <a:rPr b="0" lang="fr-FR" sz="2400" spc="-1" strike="noStrike">
                <a:solidFill>
                  <a:srgbClr val="ebd189"/>
                </a:solidFill>
                <a:latin typeface="Arial Narrow"/>
              </a:rPr>
              <a:t>le president est entre dans la salle</a:t>
            </a:r>
            <a:br>
              <a:rPr sz="2400"/>
            </a:b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n connaît maintenant la fréquence d’apparition de chacune des lettres de cette phrase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12193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n sait également que le nombre total de caractères de cette phrase est de 36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24382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’arbre que nous allons maintenant réaliser est un arbre binaire, c’est à dire que les lettres vont avoir un nombre binaire qui leur correspondra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42670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ar convention , lors d’une ramification de l’arbre , là où il se sépare en deux , le chemin de gauche est noté avec un 0 et celui de droite avec un 1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5638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bd189"/>
                </a:solidFill>
                <a:latin typeface="Arial"/>
              </a:rPr>
              <a:t>Nous allons maintenant créer l’arbre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Voici l’arbre cré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32767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32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4038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3200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4038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53280" y="3276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77320" y="3200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50292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105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4038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114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45820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5029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5029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5105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5820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371600" y="5638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09480" y="457200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620120" y="5638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858000" y="4495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819520" y="4495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095880" y="350532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5638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35812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274320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1880" y="5638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4495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4876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21337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1143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1520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3432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8720" y="4876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24480" y="2819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447920" y="2743200"/>
            <a:ext cx="1218960" cy="990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352680" y="1676160"/>
            <a:ext cx="914400" cy="533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05520" y="1523880"/>
            <a:ext cx="2209680" cy="609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4419720"/>
            <a:ext cx="22860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505320" y="3429000"/>
            <a:ext cx="38088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2666880"/>
            <a:ext cx="4572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010280" y="2666880"/>
            <a:ext cx="22860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0" y="3505320"/>
            <a:ext cx="15228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43800" y="4343400"/>
            <a:ext cx="38088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5638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2940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1371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81080" y="5562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2900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1880" y="5562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16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924680" y="2666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1219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2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724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8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1952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6858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60948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es lettres ont chacune un nombre binaire qui leur correspond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5670720"/>
            <a:ext cx="383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lus la fréquence d’apparition d’une lettre est élevée, plus son nombre binaire sera peti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able du fichier compress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La phrase est maintenant compressé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Voici la table binaire 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e: 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a : 00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- : 000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r  : 10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l : 0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d : 010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s: 100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p : 1011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n: 00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i  : 101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t : 01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Mais qu’en est-il de la taille du fichier 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aille du fichier compress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La phrase compressée occup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(7*2 + 6*3 + 4*3 + 4*3 + 3*4 + 3*4 + 3*4 + 2*4 + 2*4 + 1*5 + 1*5) = 118 bit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au lieu de (36 * 8) = 288 bit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pour un gain de compression de ((288 – 118) / 288) = 59%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NB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:Ce taux de compression diminue faiblement à cause de la table des codes de Huffman, indispensable pour la décompress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7:39:57Z</dcterms:created>
  <dc:creator>Monchamps</dc:creator>
  <dc:description/>
  <dc:language>en-US</dc:language>
  <cp:lastModifiedBy>Monchamps</cp:lastModifiedBy>
  <dcterms:modified xsi:type="dcterms:W3CDTF">2004-05-13T17:38:04Z</dcterms:modified>
  <cp:revision>71</cp:revision>
  <dc:subject/>
  <dc:title>Arbre de Huffman</dc:title>
</cp:coreProperties>
</file>