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6070-89A6-475F-BA27-7D83ACBE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3FD8-1FD8-4D79-BD30-2DC0EF18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56A4-866F-4935-BC1E-3C2F4BC9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B37-CCF0-44C3-AFF1-AC4450A8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DFA6-13F8-4167-AC92-CC516E74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71F7-8B15-4DB9-82C0-E429EE94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A563-51A5-4340-93C1-647B35B9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267-3597-44B2-8F6A-76390DC7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580A-EB15-4979-8C49-441DDFC8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C808-96B4-45DF-8C1E-5FBB743A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9CE6-0605-45A2-98F5-042AA3D0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658F-A80A-4DF3-A345-082ABD03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E409-3ABE-496B-9467-269C40121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pport de com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ison des différentes méthodes de compression sur plusieurs fich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609480"/>
          <a:ext cx="9144000" cy="55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1440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819520" y="1676520"/>
          <a:ext cx="2514600" cy="558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676520"/>
                    <a:ext cx="2514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257800" y="16765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685800"/>
          <a:ext cx="9144000" cy="55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501480"/>
          <a:ext cx="9144000" cy="585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1480"/>
                    <a:ext cx="9144000" cy="585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749520" y="6172200"/>
            <a:ext cx="51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u : taille initiale. Rouge : taille fin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1600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 760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103320"/>
          <a:ext cx="8077320" cy="675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3320"/>
                    <a:ext cx="8077320" cy="67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762120"/>
          <a:ext cx="9144000" cy="52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419720" y="13716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9 878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6880" y="598500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eurs 24 bits , 512*384 pixels , résolution 96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762120"/>
          <a:ext cx="9144000" cy="52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80880" y="0"/>
          <a:ext cx="8153640" cy="681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815364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987120" y="624852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 couleurs, 512*384 pixels , résolution 96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19051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 686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62120" y="0"/>
          <a:ext cx="7772400" cy="68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77240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3520" y="0"/>
          <a:ext cx="8153280" cy="681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815328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733920" y="18288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4 454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3040" y="617220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2kbps, 16bits, 22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62120" y="0"/>
          <a:ext cx="7696080" cy="68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696080" cy="68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6:17:19Z</dcterms:created>
  <dc:creator>Monchamps</dc:creator>
  <dc:description/>
  <dc:language>en-US</dc:language>
  <cp:lastModifiedBy>Monchamps</cp:lastModifiedBy>
  <dcterms:modified xsi:type="dcterms:W3CDTF">2004-05-16T20:01:31Z</dcterms:modified>
  <cp:revision>21</cp:revision>
  <dc:subject/>
  <dc:title>Rapport de compression</dc:title>
</cp:coreProperties>
</file>