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763-87AD-4DE6-8556-B9ABE25F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0BE-EA84-4614-BC3F-568BB46C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C89-59D2-4EA5-96C8-B81826FF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833-6C99-45C9-BDC3-28FC7140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E53-85B9-4534-A748-9932A688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F42-A078-4602-BD40-45246E81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B76-8724-46B9-99AA-AF65A96C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FCC-193E-4847-81F4-C3DC09A9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6260-1C6F-4614-9A40-BCE136CA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81D-DB0D-4438-9DEA-3DA4BDD4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648-30AA-42E2-9944-39DCF9CB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60B-87C3-4646-BB45-7D419717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DC22-5272-4346-AFB4-54D8BB451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ression LZ77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LZ77 : ex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us allons maintenant étudier la compression LZ77 au travers d’un exemple en compressant la phra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ow-much-wood-would-a-wook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n parcourt le fichier tout en le compress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3640" y="289548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nêtre (dictionn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1447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858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1905120"/>
            <a:ext cx="259092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u=0,0,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657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l=0,0,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449568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5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-wood=12,5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5053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7242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7242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6002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le programme compresse-t-il le fichier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and le programme parcourt le fichier, compare les occurrences du buffer avec celles du dictionnaire. Si il trouve des occurrences semblables de plus de 3 caractères, le  dictionnaire est avancé du nombre de caractères à compresser +1 et l ’occurrence est codée sous la forme d ’un triplet (pos,size,caractère non codé suiv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t voici la dernière étape : la boucle est bouclé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4800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nier caractère codé : h=0,0,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286000"/>
            <a:ext cx="419112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d-would-a-wood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286000"/>
            <a:ext cx="152388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uck 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5320" y="3124080"/>
            <a:ext cx="778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Ø correspond à un vide : en effet il n ’y a pl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e 4 caractères dans la phrase et le buffer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pt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9:01:59Z</dcterms:created>
  <dc:creator>eleve</dc:creator>
  <dc:description/>
  <dc:language>en-US</dc:language>
  <cp:lastModifiedBy>eleve</cp:lastModifiedBy>
  <dcterms:modified xsi:type="dcterms:W3CDTF">2004-05-13T20:02:10Z</dcterms:modified>
  <cp:revision>31</cp:revision>
  <dc:subject/>
  <dc:title>Compression LZH :</dc:title>
</cp:coreProperties>
</file>