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5B2B7-1706-4323-BB26-B356FF204C3E}" type="slidenum">
              <a:rPr b="0" lang="fr-FR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lusion avant arb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7974-4707-4AD5-A1AD-96534A620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3289-F9DA-4CCC-AA3D-A84ADF058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83A1-7334-4B71-8A1B-68CCF8695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6AEF-0091-4DBE-BB35-0C1E1A87D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3806A-0FAF-404C-A184-38E6827CE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FE569-F425-4D7C-A979-DFA13CC39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5FE62-1F5C-443D-ADC1-2B8438160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193BF-F961-4B30-986E-A37C398AF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7845A-2F2B-43D4-AEC1-13CF361E6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11A78-BBEA-400C-A469-11420B157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E8EC3-BB6E-42F4-BABE-28579C770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6993-B759-44BB-953C-2538E2266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B6F1A-FD4E-4549-A40A-283EF4673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45D1D-640E-405E-96E6-7D4F0BD54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49B19-9C9C-4651-8C8A-8A8FB3C8F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6D46D-613A-48D6-89C7-1F398CDC1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33DB3-B679-49F1-8B90-F499AAA88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AF67-3602-41CB-A03C-A88DA391B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E718-26B2-4912-BFDE-5F50156FB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A354-55D1-47BA-B312-6AB38F2E4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E486-7271-49CD-9D03-03DAB7F6A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FB51-4755-44D3-A920-E1A25E098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8A32-0698-4A59-BD73-2503F5C3D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CDCA-58B5-46AA-BA05-59C44A5D1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1F980-8C3D-462B-94A9-E5015DC08E7B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65162-23CE-4F23-AB71-D61C883480B3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Arbre de Huffma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676520" y="3733920"/>
            <a:ext cx="64008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18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d189"/>
                </a:solidFill>
                <a:latin typeface="Times New Roman"/>
              </a:rPr>
              <a:t>à quoi sert-il ,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676520" y="190512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Nous allons maintenant expliquer 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676520" y="2819520"/>
            <a:ext cx="693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18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d189"/>
                </a:solidFill>
                <a:latin typeface="Times New Roman"/>
              </a:rPr>
              <a:t>qu’est-ce qu’un arbre de huffman ,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676520" y="457200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18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d189"/>
                </a:solidFill>
                <a:latin typeface="Times New Roman"/>
              </a:rPr>
              <a:t>comment le créé-t-on 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447920" y="2895480"/>
            <a:ext cx="716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Pour simplifier les choses nous n’utiliserons pas les accents , les majuscules et les points 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066680" y="3886200"/>
            <a:ext cx="762012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Dans un premier temps , nous trouverons la fréquence d’apparition de chaque lettre dans la phrase ,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puis nous créerons l’arbre de huffman étape par étape en détaillant celles-ci ,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enfin , nous calculerons la taille du fichier compressé en la détaillant : tant d’octets pour la table , tant pour l’arbre , etc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ebd189"/>
                </a:solidFill>
                <a:latin typeface="Arial Narrow"/>
              </a:rPr>
              <a:t>Nous allons créer un arbre du huffman spécifique à la phrase suivante :</a:t>
            </a:r>
            <a:br>
              <a:rPr sz="2800"/>
            </a:br>
            <a:r>
              <a:rPr b="0" lang="fr-FR" sz="2800" spc="-1" strike="noStrike">
                <a:solidFill>
                  <a:srgbClr val="ebd189"/>
                </a:solidFill>
                <a:latin typeface="Arial Narrow"/>
              </a:rPr>
              <a:t> «  le president est entre dans la salle  »</a:t>
            </a:r>
            <a:br>
              <a:rPr sz="2800"/>
            </a:br>
            <a:endParaRPr b="0" lang="en-US" sz="2800" spc="-1" strike="noStrike">
              <a:solidFill>
                <a:srgbClr val="ebd18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066680" y="152280"/>
            <a:ext cx="784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76920" y="373392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295280" y="541008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876920" y="289548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295280" y="205740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295280" y="289548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295280" y="121932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295280" y="373392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876920" y="114300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295280" y="457200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876920" y="205740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876920" y="457200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129528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295280" y="12193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219320" y="19810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_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76920" y="11430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876920" y="20574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876920" y="28954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76920" y="37339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p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5720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i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295280" y="54100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45720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95280" y="37339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95280" y="29718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057400" y="13716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Apparaît 7 foi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057400" y="22096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Apparaît 6 foi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057400" y="29718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Apparaît 4 foi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057400" y="3809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Apparaît 4 foi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57400" y="46483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Apparaît 3 foi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057400" y="55627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Apparaît 3 foi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638680" y="12193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Apparaît 3 foi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638680" y="21337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Apparaît 2 foi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638680" y="30481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Apparaît 2 foi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638680" y="388620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Apparaît 1 foi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638680" y="47242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Apparaît 1 foi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391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ebd189"/>
                </a:solidFill>
                <a:latin typeface="Arial Narrow"/>
              </a:rPr>
              <a:t>On peut déjà déterminer le nombre de fois où chaque lettre apparaît dans la phrase :</a:t>
            </a:r>
            <a:br>
              <a:rPr sz="2400"/>
            </a:br>
            <a:r>
              <a:rPr b="0" lang="fr-FR" sz="2400" spc="-1" strike="noStrike">
                <a:solidFill>
                  <a:srgbClr val="ebd189"/>
                </a:solidFill>
                <a:latin typeface="Arial Narrow"/>
              </a:rPr>
              <a:t>le president est entre dans la salle</a:t>
            </a:r>
            <a:br>
              <a:rPr sz="2400"/>
            </a:br>
            <a:endParaRPr b="0" lang="en-US" sz="2400" spc="-1" strike="noStrike">
              <a:solidFill>
                <a:srgbClr val="ebd18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143000" y="22860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990720" y="15228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On connaît maintenant la fréquence d’apparition de chacune des lettres de cette phrase 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1219320"/>
            <a:ext cx="716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On sait également que le nombre total de caractères de cette phrase est de 36 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447920" y="2438280"/>
            <a:ext cx="723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L’arbre que nous allons maintenant réaliser est un arbre binaire, c’est à dire que les lettres vont avoir un nombre binaire qui leur correspondra 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600200" y="426708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Par convention , lors d’une ramification de l’arbre , là où il se sépare en deux , le chemin de gauche est noté avec un 0 et celui de droite avec un 1 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680" y="56386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bd189"/>
                </a:solidFill>
                <a:latin typeface="Arial"/>
              </a:rPr>
              <a:t>Nous allons maintenant créer l’arbre</a:t>
            </a:r>
            <a:endParaRPr b="0" lang="en-US" sz="3200" spc="-1" strike="noStrike">
              <a:solidFill>
                <a:srgbClr val="ebd18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Voici l’arbre créé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848720" y="3276720"/>
            <a:ext cx="761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362320" y="510552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320" y="510552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648320" y="403848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320040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403848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905120" y="617220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153280" y="327672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077320" y="32004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502920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_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362320" y="51055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905120" y="61722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562720" y="40384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648320" y="41148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458200" y="617220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352680" y="510552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14400" y="617220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324480" y="502920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238880" y="617220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14400" y="61722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324480" y="50292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52680" y="51055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458200" y="61722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p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238880" y="61722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i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1371600" y="5638680"/>
            <a:ext cx="304920" cy="457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609480" y="4572000"/>
            <a:ext cx="304920" cy="457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7620120" y="5638680"/>
            <a:ext cx="304560" cy="457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6858000" y="4495680"/>
            <a:ext cx="304920" cy="457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2819520" y="4495680"/>
            <a:ext cx="304560" cy="457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6095880" y="3505320"/>
            <a:ext cx="304920" cy="457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905120" y="5638680"/>
            <a:ext cx="304560" cy="457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19720" y="3581280"/>
            <a:ext cx="304560" cy="457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924680" y="2743200"/>
            <a:ext cx="304920" cy="457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381880" y="5638680"/>
            <a:ext cx="304920" cy="457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352680" y="4495680"/>
            <a:ext cx="304920" cy="457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371600" y="487692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38080" y="373392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666880" y="213372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343400" y="114300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315200" y="205740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934320" y="373392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848720" y="487692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895480" y="373392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809880" y="281952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324480" y="281952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1447920" y="2743200"/>
            <a:ext cx="1218960" cy="9907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3352680" y="1676160"/>
            <a:ext cx="914400" cy="5331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105520" y="1523880"/>
            <a:ext cx="2209680" cy="6098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371600" y="4419720"/>
            <a:ext cx="228600" cy="3808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3505320" y="3429000"/>
            <a:ext cx="380880" cy="3808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352680" y="2666880"/>
            <a:ext cx="457200" cy="2286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7010280" y="2666880"/>
            <a:ext cx="228600" cy="1526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858000" y="3505320"/>
            <a:ext cx="152280" cy="2286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543800" y="4343400"/>
            <a:ext cx="380880" cy="5335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352680" y="1523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867280" y="3429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352680" y="3276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590920" y="4419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066680" y="5638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28600" y="4343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523880" y="2666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858000" y="2362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391520" y="5562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629400" y="4419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867280" y="13716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429000" y="44197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981080" y="55627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371600" y="43434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495680" y="35053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429000" y="23623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381880" y="55627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620120" y="43434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781680" y="32767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924680" y="26668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267080" y="12193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a"/>
                </a:solidFill>
                <a:latin typeface="Arial Narrow"/>
              </a:rPr>
              <a:t>36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62120" y="3809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a"/>
                </a:solidFill>
                <a:latin typeface="Arial Narrow"/>
              </a:rPr>
              <a:t>12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2209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a"/>
                </a:solidFill>
                <a:latin typeface="Arial Narrow"/>
              </a:rPr>
              <a:t>2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733920" y="28954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a"/>
                </a:solidFill>
                <a:latin typeface="Arial Narrow"/>
              </a:rPr>
              <a:t>9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772400" y="4952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a"/>
                </a:solidFill>
                <a:latin typeface="Arial Narrow"/>
              </a:rPr>
              <a:t>2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858000" y="3809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a"/>
                </a:solidFill>
                <a:latin typeface="Arial Narrow"/>
              </a:rPr>
              <a:t>4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248520" y="28954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a"/>
                </a:solidFill>
                <a:latin typeface="Arial Narrow"/>
              </a:rPr>
              <a:t>8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8880" y="2133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a"/>
                </a:solidFill>
                <a:latin typeface="Arial Narrow"/>
              </a:rPr>
              <a:t>15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295280" y="49528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a"/>
                </a:solidFill>
                <a:latin typeface="Arial Narrow"/>
              </a:rPr>
              <a:t>6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819520" y="3809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a"/>
                </a:solidFill>
                <a:latin typeface="Arial Narrow"/>
              </a:rPr>
              <a:t>5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80880" y="685800"/>
            <a:ext cx="1981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38080" y="609480"/>
            <a:ext cx="1905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Les lettres ont chacune un nombre binaire qui leur correspond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124080" y="5670720"/>
            <a:ext cx="3830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Plus la fréquence d’apparition d’une lettre est élevée, plus son nombre binaire sera petit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able du fichier compressé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La phrase est maintenant compressé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Voici la table binaire 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           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e: 11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  a : 0010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- : 000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r  : 1010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           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l : 011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   d : 0101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s: 100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  p : 10111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n: 0011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  i  : 10110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t : 0100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Mais qu’en est-il de la taille du fichier 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aille du fichier compressé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06668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aea"/>
                </a:solidFill>
                <a:latin typeface="Arial"/>
                <a:ea typeface="Times New Roman"/>
              </a:rPr>
              <a:t>La phrase compressée occupe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aea"/>
                </a:solidFill>
                <a:latin typeface="Arial"/>
                <a:ea typeface="Times New Roman"/>
              </a:rPr>
              <a:t>(7*2 + 6*3 + 4*3 + 4*3 + 3*4 + 3*4 + 3*4 + 2*4 + 2*4 + 1*5 + 1*5) = 118 bits,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aea"/>
                </a:solidFill>
                <a:latin typeface="Arial"/>
                <a:ea typeface="Times New Roman"/>
              </a:rPr>
              <a:t>au lieu de (36 * 8) = 288 bits,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aea"/>
                </a:solidFill>
                <a:latin typeface="Arial"/>
                <a:ea typeface="Times New Roman"/>
              </a:rPr>
              <a:t>pour un gain de compression de ((288 – 118) / 288) = 59%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NB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  <a:ea typeface="Times New Roman"/>
              </a:rPr>
              <a:t> :Ce taux de compression diminue faiblement à cause de la table des codes de Huffman, indispensable pour la décompressi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2T17:39:57Z</dcterms:created>
  <dc:creator>Monchamps</dc:creator>
  <dc:description/>
  <dc:language>en-US</dc:language>
  <cp:lastModifiedBy>Monchamps</cp:lastModifiedBy>
  <dcterms:modified xsi:type="dcterms:W3CDTF">2004-05-13T17:38:04Z</dcterms:modified>
  <cp:revision>71</cp:revision>
  <dc:subject/>
  <dc:title>Arbre de Huffman</dc:title>
</cp:coreProperties>
</file>